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EA9-45A3-4959-850B-328B02F5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149-4D7B-4899-80ED-CCFBF686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0C0-4F03-497C-BB84-EA32549D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5D0-7D3C-458E-9E95-5451E474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3D8A-D119-46E2-B3BA-D584D76D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B7A2-1F80-481D-A615-E2EA9FC6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B1A5-5F11-4957-95D2-BDDF2FDB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C671-647E-466D-9E2E-00EF5827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A191-B2F6-46E6-AFC7-090D0FE4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5515-6065-47DB-B201-587742D4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07F7-4DC3-4E6B-9840-D8F35E1E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B8C-7823-4B93-8582-166BBF38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13A6-077B-4B0A-ABC9-A8A4E3C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1CD0-40E4-4118-91D0-87C93CA3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467B-82DB-4AAC-8721-4A77E153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99AC-F17A-4C9B-8E6D-DD34C83F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EE79-73CD-48B7-9D9C-CEE99E09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0CB4A-C4BC-456A-9F5C-E6E65873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182E9-0633-450B-82DB-694A5ABE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178B8-A4D7-4875-A9AB-3C80B6AF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741E4-20BC-4FEE-B78F-074E7925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FB076-78DF-4017-B01D-DBE44C53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190-19A6-4803-B4EA-AB1DCE35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70107-EC65-4F7A-84A3-5A964CAA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28D31-19EF-4DFB-94C4-DDE2794C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8A50C-CD03-4CB7-9FE8-90065A7F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B83B6-40E2-4726-BFE9-2A3B8BB1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FD514-40CB-405B-818F-3B68A5E0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8E21E-C410-4A9C-B9C4-6368DC11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A680E-00E8-48DB-8009-914BE4BA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FAD9-C576-4A3C-81CC-FCF28C0E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0A697-BA5F-4B09-AC6B-93E89C53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955C-10C8-4B4C-A6DF-2822164C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CC9-ADBB-4882-8784-71D3440A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805C-98AF-4C17-8DDB-6CA353A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0324-28CB-4E28-A878-B0234E4B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808E-AEF1-45F9-9B61-06E5AF12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BC0C3-6307-4A2B-8945-EE5FEC89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DA63-4E9D-487E-8BBF-F29B3AFC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8B175-619E-404B-BE46-A4401E20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AB6EB-FFF1-45B7-9374-DAB99859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0327-4FF0-44F2-BB77-20A08D26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6608-4A07-41AA-A0BE-DBFE6FB2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3D0-DD60-4E2B-A3C3-9B2C8785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277-ADB4-47E2-B93C-401243F9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A98-3568-462D-80AF-7D02A9D5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887-2A3B-42EA-A74F-09656F83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88C-19EB-48EE-9C9F-DD1D8106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ABCE-9C0E-48EF-9C7E-845192FF28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EFD2-D596-474B-B77C-88C7F02AC1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0F14-02D5-4444-824C-121907BB48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08D-0C0A-4F3E-ABBD-5C4594E328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a Cas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r Shaylee Carrasquill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Gar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Garaje es grande!!!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62120" y="2222640"/>
            <a:ext cx="784836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 Pisc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Piscina es fabulosa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67057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453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26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eaeaea"/>
                </a:solidFill>
                <a:latin typeface="Arial"/>
              </a:rPr>
              <a:t>Adios</a:t>
            </a:r>
            <a:endParaRPr b="0" lang="en-US" sz="10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 ca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 Casa es bello!!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Coc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682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Cocina es fabuloso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52280" y="2335320"/>
            <a:ext cx="80010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Comed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Comedor es bonito!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7772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Sal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Sala es magnifico!!!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4" name="" descr="Laltrogiorno Living Room Layout"/>
          <p:cNvPicPr/>
          <p:nvPr/>
        </p:nvPicPr>
        <p:blipFill>
          <a:blip r:embed="rId1"/>
          <a:stretch/>
        </p:blipFill>
        <p:spPr>
          <a:xfrm>
            <a:off x="838080" y="2343240"/>
            <a:ext cx="72392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Ba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Bano es grande!!!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543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Cuar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Cuarto es estupendo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933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Pat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Patio es impresionante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 Jard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 Jardin es grande!!!!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16:58:38Z</dcterms:created>
  <dc:creator>Carrasquillosha</dc:creator>
  <dc:description/>
  <dc:language>en-US</dc:language>
  <cp:lastModifiedBy>Carrasquillosha</cp:lastModifiedBy>
  <dcterms:modified xsi:type="dcterms:W3CDTF">2012-10-26T15:44:31Z</dcterms:modified>
  <cp:revision>3</cp:revision>
  <dc:subject/>
  <dc:title>La Casa</dc:title>
</cp:coreProperties>
</file>